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B8AB-DC58-401B-BE91-9A91A233F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reated for PreK-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ade, but can be used for any gr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asy to save and pr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Has a few formatting choices- children will not spend too much time forma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lters out common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AC69-303F-4376-B815-84D2EE160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tains a few more formatting cho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Must have an email account to save. Once saved a link appears to download the word cloud without going to the ema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lters out inappropriate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asy to pr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58DC-C214-48C0-8394-9CF8C0685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is site is advanced- meaning it has many formatting cho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It is free and does not require an ema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ord cloud forms a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ightness-the higher the number the more the shape fills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mphasis- the higher the number the larger the repeated words become. 1.00 looks like woor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Déjà vu- color codes similar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You can upload your OWN image. Go to shape…add image…browse and find the image that you w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6F2F-70DE-4E3E-92A2-817121D80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DCF-D783-4188-9C26-2C217EEF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5A22-BAD4-46AE-BAF8-257B1432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F14A-A735-4CF2-A9D7-B35F4F5B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8FD-1E77-4273-990E-E057A4C0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AB55-E2EF-4007-BD17-87547E84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48F3-C85B-4D95-8569-4C567AB6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0D0F-C645-4106-933C-244C9A16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18B1-DD6F-4703-A3C0-5DABC165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19DF-BC5A-4571-9EEB-91C5AC0C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32D8-1684-4F94-9E95-DB639EB6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A67A-BBBB-4DFA-A0CC-7DF53797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041-BE7A-43A0-96F9-CF33D9C0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CFDC-12C4-46F9-A392-366E8D34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BF56-C421-4FAF-9C87-9F2A2962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3527-AB5E-4165-9435-145B714D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D070-DCAD-4FEA-815B-26349AA2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D2BC-1856-4FFB-962F-1795FD2A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1F1B76-F0C5-4BC0-A608-303D151C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2F8404-1C1F-46D4-9F3D-3FD91DC5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EC6AE-957D-4B6D-8F9F-AEB1F366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D9918-83B3-4B87-9AF5-A013FFBA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A1D5E-26E8-4B77-814A-CC550993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74F2-6DA3-4427-A90E-E380A3E6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B756F-E731-4BD9-9F3B-90A598CB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3354A-4FDA-4081-B95B-9737C3E9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79093-3828-4F19-9F71-ABE3F557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170FF-2791-4CCF-B2E3-E4A39695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0AF19-A940-4354-B38E-4BD79EBD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F4267-1D24-422E-B3BC-1E39695C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9C57D-276B-42AA-9EC7-25660E40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4B05B3-61CB-4255-814F-B10C08E3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348DA1-6A42-424D-8F32-31066CFF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588BA3-A3F1-4EF0-874D-1EAA8434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CFF-26A1-4AD7-82C2-48866BAA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224677-88F3-4754-A36F-93E08F6D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29E57F-8C55-4BB4-ADA2-D956FA72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E2700D-353B-4695-BC3C-68D136FC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B86438-58CA-4CBB-884A-09B08C68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99C114-2D58-47FB-8FFE-022C5CB7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CDE46D-6FA8-4DEC-94E4-0BC6F626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B70261-C379-4338-88A0-45DB6702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030449-3604-44DD-96A5-4BE636E1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42FF1-DF63-4956-95E1-4F2995F7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62CCC-A87B-4BAE-BE8E-E51D5469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65D-544A-4D67-8B88-D7A0E154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DF0F15-4B31-4CD9-9B04-670681AF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AB1EF2-34E4-4C7C-BD28-5CB43481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F8512-7D9B-417E-A2EC-5D245474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DB48C2-A7B4-4499-A0C9-D068E5F9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50E1F1-AFD4-4A6C-8C8E-ADB3B0D4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2F3A45-54CB-4879-A85D-12F893E3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2875F4-9EEF-4266-BF65-03AAD05E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C12D4-DC01-4C24-A6DD-7487A65B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A43F1F-67A2-4787-B825-E849F053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0E4EE5-EF28-4BE5-9109-0898CBEA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14D9-53BA-4751-8650-28BBAD79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56DB39-3C14-45C1-8FD7-4B8F3E3B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7DA6B-83DE-44EC-938F-4C231A1B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6BEA3-1B51-493C-9B02-4886ADF5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09B54-33A2-473E-B0A1-0E404A0D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E1F55-D511-49AC-A101-A5A5FA44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A96BC-7732-42A9-9FF7-B9906C65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D9EF0-604F-4749-A682-07168C5A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E8191-3C5F-4421-9128-3537C5B8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2EE26-0D73-4D8A-8DF7-EAD4942D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ED7D1-10B6-408C-A6B6-29240499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685-6CED-4BD4-8593-A7EE3226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9E0D3-666C-4C2B-85C6-0746C963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02418-FD52-42BA-9286-1448E868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4B250-9731-4AE9-ACD6-02F1685A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E06117-2023-4B93-85D6-3FBD6A1F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9131E3-6FFE-4A65-AAFC-F233DD35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F1143F-9734-46F9-8937-0D2BEC21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CFC685-1218-495E-A8CC-6D27238E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BB391-9302-430A-B11D-5FD88B74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FA3E2A-8190-4AF0-961A-D7A326C5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D3CCAD-7A73-45B4-9609-3A0A6C29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A14-174E-4A28-B033-DC487837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3689CA-7EEB-49FA-908C-186F3FBA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F5CD0D-4985-495E-8671-DC15982A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AFD2F-6EF0-48B6-85FC-7A8457E8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C0C33D-8805-41FF-9EEE-1852EDBD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817AF1-1297-4B8C-87C1-37AEB0B6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3C480-E0A4-4FC6-864D-11D32ACB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D7F06-7D01-4DED-A5D9-8600C887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FE59B-8641-4E6D-9F96-55A83157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BE828-CF39-4A6F-B9FE-71BAA376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D6525-AB52-44B1-9565-13CF5202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AB1-8309-4B57-BD55-BB903356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FF023-940B-4A4F-B827-C9ED233A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E27C3-1AC8-4AA9-A388-896810C9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0FE63-F9E8-4B47-83FB-5D0D970D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BD87C-6495-494D-B760-C5659682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F0F06-8B74-46BC-92FC-53DB8F94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E02BC-E868-4E8E-BE20-7B56BCDF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E1DF6-4469-48CE-AF0C-1217B7BF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B724-997C-4EDA-BB81-61134C15896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AB74-37AB-4E7A-8D6D-30A5F994B41E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9F0A-2BC5-4C7A-9278-08C66BA9F6D0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B7E4-325F-4B3B-96DF-2EF25F1E1F9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1FE2-6367-457A-9492-9316DA9EE0F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87B7-0D2C-4006-98E9-03D592419E40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87AD-DE91-4213-9B75-392C4F6764D7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3495-5304-4F27-A65B-16912AB8A7B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bcya.com/word_clouds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orditout.com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agxedo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USING WORD CLOUDS TO TEACH VOCABULAR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ABCYa       WordCloudIt       Tagxedo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0" y="61722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.A.T.T. January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USING WORD CLOUDS TO TEACH VOCABULAR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ABCYa       WordCloudIt       Tagxedo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0" y="61722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.A.T.T. January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Isosceles Triangle 4"/>
          <p:cNvSpPr/>
          <p:nvPr/>
        </p:nvSpPr>
        <p:spPr>
          <a:xfrm>
            <a:off x="3657600" y="2133720"/>
            <a:ext cx="1517760" cy="1066680"/>
          </a:xfrm>
          <a:prstGeom prst="triangle">
            <a:avLst>
              <a:gd name="adj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6"/>
          <p:cNvSpPr/>
          <p:nvPr/>
        </p:nvSpPr>
        <p:spPr>
          <a:xfrm>
            <a:off x="1676520" y="2133720"/>
            <a:ext cx="5333760" cy="0"/>
          </a:xfrm>
          <a:prstGeom prst="line">
            <a:avLst/>
          </a:prstGeom>
          <a:ln w="4752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1523880" y="838080"/>
            <a:ext cx="243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igher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6095880" y="114300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ord Clo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ABCYA </a:t>
            </a:r>
            <a:br>
              <a:rPr sz="3600"/>
            </a:br>
            <a:r>
              <a:rPr b="0" lang="en-US" sz="36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abcya.com/word_clouds.htm</a:t>
            </a:r>
            <a:br>
              <a:rPr sz="3600"/>
            </a:b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8" name="Content Placeholder 2" descr="C:\Users\staycle\Desktop\MyCloud.jpeg"/>
          <p:cNvPicPr/>
          <p:nvPr/>
        </p:nvPicPr>
        <p:blipFill>
          <a:blip r:embed="rId2"/>
          <a:stretch/>
        </p:blipFill>
        <p:spPr>
          <a:xfrm>
            <a:off x="0" y="1488960"/>
            <a:ext cx="914400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Word It Out </a:t>
            </a:r>
            <a:br>
              <a:rPr sz="4000"/>
            </a:br>
            <a:r>
              <a:rPr b="0" lang="en-US" sz="4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orditout.com/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2" descr="C:\Users\staycle\Desktop\WordItOut-Word-cloud-18554.png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agxedo </a:t>
            </a:r>
            <a:br>
              <a:rPr sz="4000"/>
            </a:br>
            <a:r>
              <a:rPr b="0" lang="en-US" sz="4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tagxedo.com/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2" name="Picture 2" descr="C:\Users\staycle\Desktop\PATT Tagxedo.jpg"/>
          <p:cNvPicPr/>
          <p:nvPr/>
        </p:nvPicPr>
        <p:blipFill>
          <a:blip r:embed="rId2"/>
          <a:stretch/>
        </p:blipFill>
        <p:spPr>
          <a:xfrm>
            <a:off x="1295280" y="1554120"/>
            <a:ext cx="64771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arzano’s 6 Steps Process for Teaching New Term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2860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 provides a description, explanation, or example of the new ter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udents restate the description, explanation, or example in their own wo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k students to construct a picture, symbol, or graphic representing the ter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iodically ask students to discuss the terms with one anoth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volve students periodically in games that allow them to pl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P.A.T.T. members ideas for using word clouds to teach vocabulary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360" y="1600200"/>
            <a:ext cx="8302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s a pre-assessment, students create a word cloud of vocabulary words that they are not familiar with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reate a word cloud in a shape that represents the vocabulary list (tagxedo only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tudents type the vocabulary word and the key word next to it (use ~ to connect two words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reate many word clouds and then put them side-by-sid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tudents create a word cloud describing a specific vocabulary word. The class states the vocabulary word described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reate a word cloud of beginning sounds, rhyming words, or words that begin with the letter?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Brainstorm examples of a specific vocabulary word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inking Ma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308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ircle Map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Brace Map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Bubble Map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ouble Bubble Map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ulti-flow Map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ain idea/group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Relating factor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low map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Content Literacy Strategies/ Comprehensive Curriculum Activiti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1600200"/>
            <a:ext cx="876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US History Unit 4 Activity 7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ath Grade 8 Unit 1 Activity 1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cience Grade 3 Unit 1 Activity1 and 3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Vocabulary Cards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914400" y="4572000"/>
            <a:ext cx="6553080" cy="1981080"/>
          </a:xfrm>
          <a:prstGeom prst="rect">
            <a:avLst/>
          </a:prstGeom>
          <a:noFill/>
          <a:ln w="5724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990720" y="464832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FINITION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      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VOCABULARY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AMPLES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22:35:51Z</dcterms:created>
  <dc:creator>staycle</dc:creator>
  <dc:description/>
  <dc:language>en-US</dc:language>
  <cp:lastModifiedBy>helen</cp:lastModifiedBy>
  <dcterms:modified xsi:type="dcterms:W3CDTF">2011-01-20T21:28:31Z</dcterms:modified>
  <cp:revision>18</cp:revision>
  <dc:subject/>
  <dc:title>Using Word Clouds to teach vocabulary</dc:title>
</cp:coreProperties>
</file>